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8BE5-7E31-4C5F-9FB6-52EAAB10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5C21-AEEC-4878-978B-2F04347E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913E-3BD7-47FF-B9CD-2D7733DF1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BD2D-2867-4C5A-A3E6-9CB7C1644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5D8F-2B86-4EEE-9E8F-072F1E38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BE35-D399-4878-8AAA-DFC3E695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99C7-B763-474F-8CDA-02A8E436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6CAA-BD17-4D69-90F0-83982484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15B5-C4CA-4409-BA8E-48915D8E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DEBA-0182-4416-8BA5-8C7A581D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A486-27E7-42AD-A5EF-5AC51E3C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1E94-3D77-4F0E-ABAE-8A288AB3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5C53-961E-4725-B540-901DA7C5A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yuni Tech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lo Worl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02:28:59Z</dcterms:created>
  <dc:creator>Jose</dc:creator>
  <dc:description/>
  <dc:language>en-US</dc:language>
  <cp:lastModifiedBy>Jose</cp:lastModifiedBy>
  <dcterms:modified xsi:type="dcterms:W3CDTF">2006-06-29T02:29:27Z</dcterms:modified>
  <cp:revision>1</cp:revision>
  <dc:subject/>
  <dc:title>Amyuni Tech Sample</dc:title>
</cp:coreProperties>
</file>